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AB99-1A98-4D92-B312-A7DBFD2F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8DFB-57F2-4F16-ADD2-C6928487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29C0-B577-45A3-B27F-530C7AD7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1696-9068-4D5D-A921-A004F525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F11E-3C4E-46D9-9F75-04621DBE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1BED-F917-40C4-9C3F-EA0BC155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1EAF-AB1F-4070-BEB9-0711CCB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B6EC-8E29-4526-8949-A59B203F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A535-5FAA-4022-A209-FC5093A2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7C89-C063-4EDE-ADA4-6720B7B2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DE88-2E6E-40B0-BB68-7985A413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A4B6-18DF-4F00-8ED4-0769F5C6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C2AD-A87D-4C9B-840C-576D358F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57E1-D892-473D-8D7F-3F733B4D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735F-5464-4E48-A0E6-F0246545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E0CA-EB55-48BF-99A6-2C5D7135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B457-5A01-4B17-B5A9-3E0F872F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0C00-514F-4120-BBDE-C5D280C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CD2C-FFF9-4429-94FD-1F529EBB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876C-86B0-439D-B5E8-9FD18728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89D8-2D0D-4D08-8591-6F7EF5B8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533E-F25A-4488-B1F9-33BBFA92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E09D-63BE-442A-9618-90F4E4AC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5222-58C5-4055-9E33-C4DD4312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999E-FE7D-4BEF-98FF-28CD44360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7F7B-2E75-4CAC-86FF-CC7C7955E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e fel de motor foloseau bunicii pentru trenurile 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arele automobile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istă mai multe tipuri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marius</cp:lastModifiedBy>
  <dcterms:modified xsi:type="dcterms:W3CDTF">2010-04-13T17:45:18Z</dcterms:modified>
  <cp:revision>4</cp:revision>
  <dc:subject/>
  <dc:title>Petrolul mişcă omenirea</dc:title>
</cp:coreProperties>
</file>